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B43C-8182-4813-B7F2-3000D0240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C23F-C3FA-4858-8396-317612543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1B26-7852-4086-8943-300AD0B6A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DDE-A6DA-4A23-A6D2-B109C31A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604-6ECC-4D16-AC1B-26A0D2EC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DB4-8C5E-4556-97A6-0944E801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0DB-9E1C-4E71-9CE6-53FD22D1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7F2-6232-4C9F-8061-CB5A2A04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FE6-C27B-49A8-9D1D-1EF00E26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C89-1255-47E7-95F9-647784C2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E85-C808-4D07-8E68-13926A7E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25D-A73F-4842-8049-F192DC77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C81-BDD7-48EF-BDBE-4AB992B1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951-72FB-4F9D-821A-2FAB210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1D0-7ED9-4937-B2DF-64489E3D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FB4A-3B1E-408C-A993-0F22A9B06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Switches - Cisco Nexus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64TQ-10GT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32Q-40G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32Q-40G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64Q-40G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98800" y="3486240"/>
            <a:ext cx="13464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64Q-40G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98800" y="3486240"/>
            <a:ext cx="13464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72PQ-10G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72PQ-10G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72TQ-10GT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72TQ-10GT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548P-10G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548P-10G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726000" y="884160"/>
            <a:ext cx="16920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16Q-40G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16Q-40G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48T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48T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64PQ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64PQ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64TQ-10GT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4-06-05T22:51:22Z</dcterms:modified>
  <cp:revision>5</cp:revision>
  <dc:subject/>
  <dc:title>Slide 1</dc:title>
</cp:coreProperties>
</file>